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8448-DB70-446D-8EB1-2937E845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9C15-808F-458E-B071-5ABDAA55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F4AB-570F-4DD5-9D75-AE319CE7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843A-2E06-4016-9E79-DFC210D4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071A-D668-4C8B-83EE-B9CDE66B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C8E6-667F-4999-8B62-C083B866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C405-AA8B-4AC3-BA2A-CE873D6E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D7DD-334D-4264-9B61-42389B40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8212-5D2B-4E6C-A42C-21676A9B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629-2092-4ADD-93D3-751CE954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2C74-4243-4A06-ADAE-84884B4C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7FB-2667-48E6-9BBD-99402DD8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250B-FB5A-4799-802B-14B34D6F5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 Narrow"/>
              </a:rPr>
              <a:t>Glory to God in the High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lory to God in the highe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peace to God’s peo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 God, heavenly King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mighty God and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worship you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give you thank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praise you for your gl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ly Son 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 God, Lamb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take away the sin of the worl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are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receive our pray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you alone are the Holy 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alone are the L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alone are the Most Hig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glory of God the Fath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00:20Z</dcterms:created>
  <dc:creator>Anon Anon</dc:creator>
  <dc:description/>
  <dc:language>en-US</dc:language>
  <cp:lastModifiedBy>Anon Anon</cp:lastModifiedBy>
  <dcterms:modified xsi:type="dcterms:W3CDTF">2005-08-09T05:26:53Z</dcterms:modified>
  <cp:revision>10</cp:revision>
  <dc:subject/>
  <dc:title>PowerPoint Presentation</dc:title>
</cp:coreProperties>
</file>